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479-F9A5-4621-B58D-D7DBB1D4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CF9-D105-4C3A-8DEC-5EDAAC43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BC0-9EFD-4281-9407-7EFB6C68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3E5-E3D9-4328-8063-E5858C0D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D1D0-6847-4596-B41E-DAA3340C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4B2A-5236-4FF1-8D1E-92FD3693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D750-30B8-4F95-A32F-FE0C4E5D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BA07-C0E9-4585-BAF5-87917606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2911-3EE8-460F-8E48-28A38A29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F457-65C8-4C84-8961-796B3B68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59DC-289F-4796-9E2B-69D22DB0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6A0-AE49-44C0-BDEA-A4A6135D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9880-6DF4-4A86-85E1-D7849F06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BDBD-6502-4822-9B68-4DDB2FD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82B9-7DBB-4A23-87CC-07A2CF75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F9AD-7B8F-4834-A2E7-F90FB20C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E01D-0EB6-4B74-8640-C15A0571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E051-2CD4-4EC9-8AD4-93357743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8C10-D5F8-40FA-8E73-B3FE28AD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E9E8-89C1-4517-AD4A-3BB20FA0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182A-42FE-4398-87B6-BF8A278C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CC7A-CFF3-441B-B790-5D0FB716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B82-B2B3-4ED1-B891-9B65B41E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2191-7826-4079-96B3-4F5AEB17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C394B-0058-402B-AE02-005B8E18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EA1C-84E6-41A1-8CC5-0E119E6B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D7FC-1DA1-45D7-AD0E-7EC166E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9570-13CB-4E5B-81F9-A432B7DA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CD81-819C-41CA-BFA6-6C486963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C4250-D122-44DF-A89E-D0ECDBA4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E9C5-501E-4EB7-89C3-646F2CE2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CCCC7-94D0-4167-8A8E-6D268E6C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6F4A-DE45-40BE-82FE-8DF9AB88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6DB-A17F-4A2B-8350-5141B584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94EFD-9FDB-4FC8-8520-0A5FA316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BCCF-15B9-402D-ADC4-9C73471B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60A6-5DCB-409C-9062-DA71A316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ACA1-B901-4EDE-AD83-DF36AE8C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B964C-2B00-4CDD-B08C-D668F5EB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AE68-4B67-4D6A-9029-8212FFA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1C41A-979B-432A-A1C4-C97B0364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A256-E970-43BD-9BDE-92CD55E5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963A-8853-4B7D-9334-E8192ACA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3CA-DBE6-4100-876E-D86DCC6E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826-7FB6-4A54-8DAC-EE6FA2C3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F4C-4069-40D1-B86D-82140262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D9C-DBDD-47C8-A032-E2A3EBA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EBE-0FDF-441A-9F9E-215D94A5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5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1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7362A-F087-4B3C-9A99-AC1512359E8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04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47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51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49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AD75C-42D8-4A78-9DEA-029604E4FEB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07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94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3075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6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3E6C1-1A19-402C-BA44-03B4FD47B85B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09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4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Group 4099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E7A6B-A125-40C2-89E2-2B03338DA0BE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How Many </a:t>
            </a:r>
            <a:r>
              <a:rPr b="0" lang="en-GB" sz="5400" spc="-1" strike="noStrike">
                <a:solidFill>
                  <a:srgbClr val="404040"/>
                </a:solidFill>
                <a:latin typeface="Calisto MT"/>
                <a:ea typeface="SimSun"/>
              </a:rPr>
              <a:t>.....</a:t>
            </a: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 are There?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040" y="344808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sto MT"/>
                <a:ea typeface="SimSun"/>
              </a:rPr>
              <a:t>Show the picture for ten seconds then they can write or shout out the guess. Go back and count af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5" name="Content Placeholder 15362" descr=""/>
          <p:cNvPicPr/>
          <p:nvPr/>
        </p:nvPicPr>
        <p:blipFill>
          <a:blip r:embed="rId1"/>
          <a:stretch/>
        </p:blipFill>
        <p:spPr>
          <a:xfrm>
            <a:off x="1581120" y="2011320"/>
            <a:ext cx="5337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zebra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 zebra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9" name="Content Placeholder 17410" descr=""/>
          <p:cNvPicPr/>
          <p:nvPr/>
        </p:nvPicPr>
        <p:blipFill>
          <a:blip r:embed="rId1"/>
          <a:stretch/>
        </p:blipFill>
        <p:spPr>
          <a:xfrm>
            <a:off x="2890800" y="1838160"/>
            <a:ext cx="312408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fr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fr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13" name="Content Placeholder 19458" descr=""/>
          <p:cNvPicPr/>
          <p:nvPr/>
        </p:nvPicPr>
        <p:blipFill>
          <a:blip r:embed="rId1"/>
          <a:stretch/>
        </p:blipFill>
        <p:spPr>
          <a:xfrm>
            <a:off x="1890720" y="2090880"/>
            <a:ext cx="53420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hors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hor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mi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mouse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87520" y="1417680"/>
            <a:ext cx="70167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870200" y="1417680"/>
            <a:ext cx="549576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893960" y="1417680"/>
            <a:ext cx="5151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809720" y="1417680"/>
            <a:ext cx="5175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89" name="Content Placeholder 7170" descr=""/>
          <p:cNvPicPr/>
          <p:nvPr/>
        </p:nvPicPr>
        <p:blipFill>
          <a:blip r:embed="rId1"/>
          <a:stretch/>
        </p:blipFill>
        <p:spPr>
          <a:xfrm>
            <a:off x="1450800" y="1805040"/>
            <a:ext cx="6237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905120" y="1417680"/>
            <a:ext cx="5327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217520" y="1673280"/>
            <a:ext cx="60022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736560" y="1417680"/>
            <a:ext cx="7831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tiger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tig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3" name="Content Placeholder 9218" descr=""/>
          <p:cNvPicPr/>
          <p:nvPr/>
        </p:nvPicPr>
        <p:blipFill>
          <a:blip r:embed="rId1"/>
          <a:stretch/>
        </p:blipFill>
        <p:spPr>
          <a:xfrm>
            <a:off x="1450800" y="1790640"/>
            <a:ext cx="59104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d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d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7" name="Content Placeholder 11266" descr=""/>
          <p:cNvPicPr/>
          <p:nvPr/>
        </p:nvPicPr>
        <p:blipFill>
          <a:blip r:embed="rId1"/>
          <a:stretch/>
        </p:blipFill>
        <p:spPr>
          <a:xfrm>
            <a:off x="1790640" y="1854360"/>
            <a:ext cx="58546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elephan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elephan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1" name="Content Placeholder 13314" descr=""/>
          <p:cNvPicPr/>
          <p:nvPr/>
        </p:nvPicPr>
        <p:blipFill>
          <a:blip r:embed="rId1"/>
          <a:stretch/>
        </p:blipFill>
        <p:spPr>
          <a:xfrm>
            <a:off x="1521000" y="1979640"/>
            <a:ext cx="5746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r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r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c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 c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6:39:48Z</dcterms:created>
  <dc:creator>Clark Kopelman</dc:creator>
  <dc:description/>
  <dc:language>en-US</dc:language>
  <cp:lastModifiedBy>firea</cp:lastModifiedBy>
  <dcterms:modified xsi:type="dcterms:W3CDTF">2018-12-12T05:20:45Z</dcterms:modified>
  <cp:revision>5</cp:revision>
  <dc:subject/>
  <dc:title>Fruits and Veget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7587</vt:lpwstr>
  </property>
</Properties>
</file>